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5.wmf" ContentType="image/x-wmf"/>
  <Override PartName="/ppt/media/image3.wmf" ContentType="image/x-wmf"/>
  <Override PartName="/ppt/media/image24.jpeg" ContentType="image/jpeg"/>
  <Override PartName="/ppt/media/image4.wmf" ContentType="image/x-wmf"/>
  <Override PartName="/ppt/media/image23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8A63-6660-41C7-BEDD-3E65B569D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3A90-E9B3-4EE7-AEE4-97A0FA12E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3835-B97C-4B4B-BCE1-32CAEDCBA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48A7-AC82-4888-916F-A9C62069E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6A22-E6BB-4EFB-AF88-BF5FF3E21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7C93-45DB-4749-B680-3243CE288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0740-A89E-459D-AA4D-366B0E819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62A6-BC2F-44B1-85EE-E531B7775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5908-FB46-47A8-92FA-53741A373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1169-663C-4857-94C7-6529B051D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3431-2E9F-45C9-8728-32C2EF3B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7F8-0310-427D-8D25-9ED11045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6F9-0571-448E-BBE6-B051C578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13E-CC0B-49F1-882B-AB54062B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4EE1-3EC9-45F8-9B8D-8A60785F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AF97-FA72-4872-9AC2-F4CF2179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C006-F274-4E4E-A99A-308A9B6B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F3C2-FC4F-431E-97DF-07DEF20D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652E-14F8-41FB-B2A1-5CF22BCE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0FF0-DD94-427C-A191-12B2279C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214E-8B85-46BF-9642-8E5A6557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AD2-B826-4EF8-9B77-680A0B3E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1B16-0C30-4549-97BB-3BC06E1A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91F0-3DED-4C81-BECC-365AAC4C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87D4-E90E-4BDE-BB37-5C8C0CEA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DA0D-B411-4D45-9E02-A9C0D32C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8697-D42F-43A9-AD65-BBC12C34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A6BE-1F2A-4331-80CE-5FAE0751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F71B-C4D3-473A-B377-5C1BC216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B4EFC-90DD-402C-B516-CC8E9398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D8392-E30D-4A03-8735-168738A4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D83D5-4756-4008-8746-119C3454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024-5880-49EF-945E-34331264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8BBA8-FA80-4249-8387-F99082BD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562F9-608B-4C8E-B4B6-4902C4E3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4F0CB-1813-49B2-8E32-04131C14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C6C9-E607-4590-8D2C-C1FC3928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2938-143E-441E-B8D4-49841293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189B1-967F-49F6-A984-0E20EBEA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294D6-3AFF-4006-8F5E-42B495AB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24087-918A-48E7-80C4-B921DA5C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5A5FC-6ED4-47E6-94BA-16C8DEF8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0E962-D9CF-47B1-9922-FEC64D78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029-632F-4739-9786-C83229C7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ABDBB-3D44-4237-8872-3A932E78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8EADD-A1F4-4B1A-8884-31D90087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E35CB-D8AD-46BB-A2D0-B96A975C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3776-F5AA-4643-9328-D0C67E54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4E4D-CE4A-4DAC-8720-63E5AA44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FE30D-AA1B-4170-AE04-F2EBB851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9A543-AF0E-48CF-A722-B87996FD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8EBE0-E013-4BB3-B2A4-110EF615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1CFD4-53A7-41A1-996D-9F280CF1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592B9-F65D-4EE5-BE17-7F3CED20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337-1D89-4ABC-89C1-2E969C41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13FD6-974D-4878-B695-5AACB85E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7A4AA-56C2-44A9-BF40-85665A8C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BB458-81BC-4103-891B-017EA745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8704C-556E-4023-BD97-7C0D4047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EEC5F-D3D7-4FA4-ABC0-9B936A26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86C99-6198-466E-8F6B-29018890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17D72-B069-4B04-884B-136A41F2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6D517-0680-4544-AD23-BFC792B6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A96E6-09EB-40E2-B5A8-F6B171A4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56E6D-6B25-4D64-A370-17E8EB33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172-184C-4E58-A343-4AB03101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668C9-2D6F-430D-897B-46ABB3C9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CC78F-062D-471B-AF93-73944B12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545E8-9B69-4577-A86A-C249105A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ACBFE-6709-430A-93B2-23432D5C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05DD7-B2E7-4453-B04F-ED01677D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C2AC5-3A97-4A07-9D4A-01987CA2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061C3-45D0-480F-B011-4BFDCC12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6119D-2018-4DE3-9D23-B5AC27ED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C8DB2-566B-43D0-9C93-9A8F17E0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551E0-1E29-47BD-B1F5-449C0005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FC8-17EA-4C37-B806-548C3575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327F4-8B48-4088-8FF4-7CC55462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F90E8-880D-4506-9B49-7F9B2439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5DD0A-3C2D-47AE-A3E8-7BA8816C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534D4-DC40-4E2E-8DBD-2C3A3DB0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2FEC2-3FD9-4219-AA2F-114E496F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C6787-4554-4ED6-9F09-0F56A8E8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D994E-1547-403C-AD71-26066914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87162-F40E-4D57-835D-4EB000CB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A07A9-7B2F-4A47-8430-C27AAC70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A80DE-F654-476D-BD12-BA9E504D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62C-BBB0-4AC3-8176-B53DF19F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A4D8A-4BBA-42B4-BC4F-20AB6C5A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077D1-3910-475F-B544-9458F10B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25D2E-57A6-47BB-999D-1BE5C605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4E701-F462-4882-9D67-967E5791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1D564-8A0A-413B-98EB-1C481E73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D02-23DE-4FF3-B30A-BF627DDD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EE19-A159-4583-9D34-906EB0B9F06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0B02-5217-443D-93C7-0C56A36B1A9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4FBF-F688-4FE6-BCA4-0AEE60C4A4D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B4AF-B039-40FA-97AD-1E13019B0C8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AFD5-C023-40DB-84B3-EC4E1F059C8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81C7-DEE0-41C0-963F-B1F5D184649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1D9B-3B34-44B6-B3D6-B7EE35BE74E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hat does culture mean to you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The Meaning of Cul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23" name="Picture 4" descr="BL00248_"/>
          <p:cNvPicPr/>
          <p:nvPr/>
        </p:nvPicPr>
        <p:blipFill>
          <a:blip r:embed="rId1"/>
          <a:stretch/>
        </p:blipFill>
        <p:spPr>
          <a:xfrm>
            <a:off x="7467480" y="4800600"/>
            <a:ext cx="646200" cy="615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BL00252_"/>
          <p:cNvPicPr/>
          <p:nvPr/>
        </p:nvPicPr>
        <p:blipFill>
          <a:blip r:embed="rId2"/>
          <a:stretch/>
        </p:blipFill>
        <p:spPr>
          <a:xfrm>
            <a:off x="5791320" y="4648320"/>
            <a:ext cx="949320" cy="825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BL00265_"/>
          <p:cNvPicPr/>
          <p:nvPr/>
        </p:nvPicPr>
        <p:blipFill>
          <a:blip r:embed="rId3"/>
          <a:stretch/>
        </p:blipFill>
        <p:spPr>
          <a:xfrm>
            <a:off x="4267080" y="4724280"/>
            <a:ext cx="617760" cy="785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BL00270_"/>
          <p:cNvPicPr/>
          <p:nvPr/>
        </p:nvPicPr>
        <p:blipFill>
          <a:blip r:embed="rId4"/>
          <a:stretch/>
        </p:blipFill>
        <p:spPr>
          <a:xfrm>
            <a:off x="2666880" y="4724280"/>
            <a:ext cx="561960" cy="700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BL00273_"/>
          <p:cNvPicPr/>
          <p:nvPr/>
        </p:nvPicPr>
        <p:blipFill>
          <a:blip r:embed="rId5"/>
          <a:stretch/>
        </p:blipFill>
        <p:spPr>
          <a:xfrm>
            <a:off x="914400" y="4876920"/>
            <a:ext cx="895320" cy="5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Complexity of Culture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Culture Traits-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Use of forks and knives, saying hello to someone you see in the hall, tackling someone in a football gam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Culture complexes-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able manners, the game of footbal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Culture Patterns-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ports, Religion, Family lif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eaching American Cul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How hard would it be to teach someone from another country about our culture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ample: American Christ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44792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 to ask myself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at makes American Christmas different from Christmas around the world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at sort of cultural products, practices, symbols, language, norms, language, etc. make up American Christmas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ow could I share this with someone who has recently moved to this country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5" name="Picture 2" descr="http://earlymodernpost.files.wordpress.com/2011/12/christmas_snoopy2.jpg"/>
          <p:cNvPicPr/>
          <p:nvPr/>
        </p:nvPicPr>
        <p:blipFill>
          <a:blip r:embed="rId1"/>
          <a:stretch/>
        </p:blipFill>
        <p:spPr>
          <a:xfrm>
            <a:off x="5791320" y="2209680"/>
            <a:ext cx="30859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American Christmas…What Makes it Different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67" name="Picture 4" descr="http://open-site.org/img/mjflick/sint.jpg"/>
          <p:cNvPicPr/>
          <p:nvPr/>
        </p:nvPicPr>
        <p:blipFill>
          <a:blip r:embed="rId1"/>
          <a:stretch/>
        </p:blipFill>
        <p:spPr>
          <a:xfrm>
            <a:off x="685800" y="2590920"/>
            <a:ext cx="3209760" cy="2409840"/>
          </a:xfrm>
          <a:prstGeom prst="rect">
            <a:avLst/>
          </a:prstGeom>
          <a:ln w="0">
            <a:noFill/>
          </a:ln>
        </p:spPr>
      </p:pic>
      <p:sp>
        <p:nvSpPr>
          <p:cNvPr id="368" name="TextBox 5"/>
          <p:cNvSpPr/>
          <p:nvPr/>
        </p:nvSpPr>
        <p:spPr>
          <a:xfrm>
            <a:off x="685800" y="510552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ides on hors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uts toys in sh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6" descr="http://www.santaclaus.info/images/santa2.jpg"/>
          <p:cNvPicPr/>
          <p:nvPr/>
        </p:nvPicPr>
        <p:blipFill>
          <a:blip r:embed="rId2"/>
          <a:stretch/>
        </p:blipFill>
        <p:spPr>
          <a:xfrm>
            <a:off x="5486400" y="1600200"/>
            <a:ext cx="2476440" cy="3676680"/>
          </a:xfrm>
          <a:prstGeom prst="rect">
            <a:avLst/>
          </a:prstGeom>
          <a:ln w="0">
            <a:noFill/>
          </a:ln>
        </p:spPr>
      </p:pic>
      <p:sp>
        <p:nvSpPr>
          <p:cNvPr id="370" name="TextBox 7"/>
          <p:cNvSpPr/>
          <p:nvPr/>
        </p:nvSpPr>
        <p:spPr>
          <a:xfrm>
            <a:off x="5181480" y="53341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as a sleigh driven by flying reind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rings toys down our chim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927720" y="205740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anta in Hol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6602760" y="137160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American S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Cultural Products, Practices, Symbol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5440" y="1905120"/>
            <a:ext cx="6172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Norms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anking someone for a gift, RSVPing to a party, greeting someone, etc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roducts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fts, ornaments, candy canes, etc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ractices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roling, decorating the Christmas tree, wrapping gifts, watching Christmas movies, spending time with family and friends, Secret Santa, White Elephant parties, etc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ymbols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stleto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5" name="Picture 2" descr="http://blah.burrp.com/wp-content/uploads/2008/12/mistletoerex_228x357.jpg"/>
          <p:cNvPicPr/>
          <p:nvPr/>
        </p:nvPicPr>
        <p:blipFill>
          <a:blip r:embed="rId1"/>
          <a:stretch/>
        </p:blipFill>
        <p:spPr>
          <a:xfrm>
            <a:off x="6705720" y="3124080"/>
            <a:ext cx="217152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Franklin Gothic Book"/>
              </a:rPr>
              <a:t>Definition of Cul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nsists of all the shared products of human groups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se products includ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Physical objec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elief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ehavio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LL SHARED BY A GROUP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0" name="Picture 4" descr="PH03426I"/>
          <p:cNvPicPr/>
          <p:nvPr/>
        </p:nvPicPr>
        <p:blipFill>
          <a:blip r:embed="rId1"/>
          <a:stretch/>
        </p:blipFill>
        <p:spPr>
          <a:xfrm>
            <a:off x="5257800" y="2590920"/>
            <a:ext cx="297180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Franklin Gothic Book"/>
              </a:rPr>
              <a:t>CULTURE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erial Cul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hysical objects that people create form a group’s material cul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Artifact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nmaterial Cul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bstract human creations form a group’s nonmaterial cul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dea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ork practic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olitical syste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amily patter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4" name="Picture 1030" descr="TN00332_"/>
          <p:cNvPicPr/>
          <p:nvPr/>
        </p:nvPicPr>
        <p:blipFill>
          <a:blip r:embed="rId1"/>
          <a:stretch/>
        </p:blipFill>
        <p:spPr>
          <a:xfrm>
            <a:off x="990720" y="5257800"/>
            <a:ext cx="2293920" cy="1139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31" descr="BD00041_"/>
          <p:cNvPicPr/>
          <p:nvPr/>
        </p:nvPicPr>
        <p:blipFill>
          <a:blip r:embed="rId2"/>
          <a:stretch/>
        </p:blipFill>
        <p:spPr>
          <a:xfrm>
            <a:off x="2743200" y="4267080"/>
            <a:ext cx="930240" cy="8924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32" descr="BS00580_"/>
          <p:cNvPicPr/>
          <p:nvPr/>
        </p:nvPicPr>
        <p:blipFill>
          <a:blip r:embed="rId3"/>
          <a:stretch/>
        </p:blipFill>
        <p:spPr>
          <a:xfrm>
            <a:off x="1523880" y="4343400"/>
            <a:ext cx="993960" cy="836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033" descr="BS00975_"/>
          <p:cNvPicPr/>
          <p:nvPr/>
        </p:nvPicPr>
        <p:blipFill>
          <a:blip r:embed="rId4"/>
          <a:stretch/>
        </p:blipFill>
        <p:spPr>
          <a:xfrm>
            <a:off x="304920" y="4343400"/>
            <a:ext cx="1155600" cy="712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34" descr="BD06553_"/>
          <p:cNvPicPr/>
          <p:nvPr/>
        </p:nvPicPr>
        <p:blipFill>
          <a:blip r:embed="rId5"/>
          <a:stretch/>
        </p:blipFill>
        <p:spPr>
          <a:xfrm>
            <a:off x="5257800" y="3352680"/>
            <a:ext cx="1039680" cy="1030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35" descr="bd19923_"/>
          <p:cNvPicPr/>
          <p:nvPr/>
        </p:nvPicPr>
        <p:blipFill>
          <a:blip r:embed="rId6"/>
          <a:stretch/>
        </p:blipFill>
        <p:spPr>
          <a:xfrm>
            <a:off x="7010280" y="4191120"/>
            <a:ext cx="1766880" cy="906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36" descr="BD06914_"/>
          <p:cNvPicPr/>
          <p:nvPr/>
        </p:nvPicPr>
        <p:blipFill>
          <a:blip r:embed="rId7"/>
          <a:stretch/>
        </p:blipFill>
        <p:spPr>
          <a:xfrm>
            <a:off x="5257800" y="502920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37" descr="BD07123_"/>
          <p:cNvPicPr/>
          <p:nvPr/>
        </p:nvPicPr>
        <p:blipFill>
          <a:blip r:embed="rId8"/>
          <a:stretch/>
        </p:blipFill>
        <p:spPr>
          <a:xfrm>
            <a:off x="4343400" y="5029200"/>
            <a:ext cx="903240" cy="78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38" descr="PE00833_"/>
          <p:cNvPicPr/>
          <p:nvPr/>
        </p:nvPicPr>
        <p:blipFill>
          <a:blip r:embed="rId9"/>
          <a:stretch/>
        </p:blipFill>
        <p:spPr>
          <a:xfrm>
            <a:off x="6019920" y="5791320"/>
            <a:ext cx="1347840" cy="7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Franklin Gothic Book"/>
              </a:rPr>
              <a:t>What can an artifact tell us about a culture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rtifacts contain many clues about a society’s cultur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thropologists search for artifacts to learn about cultures of past societi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kind of information can anthropologists gain by studying artifact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nk of an example….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5" name="Picture 4" descr="BD06094_"/>
          <p:cNvPicPr/>
          <p:nvPr/>
        </p:nvPicPr>
        <p:blipFill>
          <a:blip r:embed="rId1"/>
          <a:stretch/>
        </p:blipFill>
        <p:spPr>
          <a:xfrm>
            <a:off x="4572000" y="4648320"/>
            <a:ext cx="1184400" cy="17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Franklin Gothic Book"/>
              </a:rPr>
              <a:t>Society v. Culture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Society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is a group of mutually inter-dependent people who have organized in such a way as to share a common culture and feeling of unity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8" name="Picture 5" descr="BD05062_"/>
          <p:cNvPicPr/>
          <p:nvPr/>
        </p:nvPicPr>
        <p:blipFill>
          <a:blip r:embed="rId1"/>
          <a:stretch/>
        </p:blipFill>
        <p:spPr>
          <a:xfrm>
            <a:off x="4721400" y="2655720"/>
            <a:ext cx="3663720" cy="268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Huh?  In simple terms…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Perpetua"/>
              </a:rPr>
              <a:t>Society</a:t>
            </a:r>
            <a:r>
              <a:rPr b="0" lang="en-US" sz="4800" spc="-1" strike="noStrike">
                <a:solidFill>
                  <a:srgbClr val="006600"/>
                </a:solidFill>
                <a:latin typeface="Perpetua"/>
              </a:rPr>
              <a:t> consists of people and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Perpetua"/>
              </a:rPr>
              <a:t>Culture</a:t>
            </a:r>
            <a:r>
              <a:rPr b="0" lang="en-US" sz="4800" spc="-1" strike="noStrike">
                <a:solidFill>
                  <a:srgbClr val="800000"/>
                </a:solidFill>
                <a:latin typeface="Perpetua"/>
              </a:rPr>
              <a:t> </a:t>
            </a:r>
            <a:r>
              <a:rPr b="0" lang="en-US" sz="4800" spc="-1" strike="noStrike">
                <a:solidFill>
                  <a:srgbClr val="006600"/>
                </a:solidFill>
                <a:latin typeface="Perpetua"/>
              </a:rPr>
              <a:t>consists of the products that people create.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1" name="Picture 4" descr="BD08784_"/>
          <p:cNvPicPr/>
          <p:nvPr/>
        </p:nvPicPr>
        <p:blipFill>
          <a:blip r:embed="rId1"/>
          <a:stretch/>
        </p:blipFill>
        <p:spPr>
          <a:xfrm>
            <a:off x="3276720" y="4267080"/>
            <a:ext cx="2808000" cy="21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Franklin Gothic Book"/>
              </a:rPr>
              <a:t>Components of Culture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762120" y="1905120"/>
          <a:ext cx="761976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61976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Franklin Gothic Book"/>
              </a:rPr>
              <a:t>Types of Norms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Perpetua"/>
              </a:rPr>
              <a:t>Folkway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are norms that do not have great moral significance attached to them.  They are common customs of everyday lif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x.  Holding a door for someone, saying “bless you” to a sneez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Perpetua"/>
              </a:rPr>
              <a:t>More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 have great moral significance attached to them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x.  Adultery, lying, cheat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Perpetua"/>
              </a:rPr>
              <a:t>Law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is a written rule of conduct that is enacted and enforced by the government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ltural P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roduct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ything created by the culture for members of that culture, tangible or intangible, such as food, art, books, educational system, and law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ractices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people do, when and where of social interactions, what they do with their products, etc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erspectives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attitudes, beliefs, or values of people in a cultur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23:00:29Z</dcterms:created>
  <dc:creator>Unknown User</dc:creator>
  <dc:description/>
  <dc:language>en-US</dc:language>
  <cp:lastModifiedBy>John Hampton</cp:lastModifiedBy>
  <dcterms:modified xsi:type="dcterms:W3CDTF">2012-05-08T18:47:47Z</dcterms:modified>
  <cp:revision>14</cp:revision>
  <dc:subject/>
  <dc:title>The Meaning of Culture</dc:title>
</cp:coreProperties>
</file>